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23.jpeg" ContentType="image/jpeg"/>
  <Override PartName="/ppt/media/image8.jpeg" ContentType="image/jpeg"/>
  <Override PartName="/ppt/media/image5.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18.png" ContentType="image/png"/>
  <Override PartName="/ppt/media/image15.jpeg" ContentType="image/jpe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4234EF0-8E43-43C1-863A-4994B8824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B848FFD-0A7C-4E85-A1E2-9F3A2B16F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BFCD627-AA97-457F-9453-C0DEE95C0E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0DE6EF4-D2DD-4A52-B56A-CA5A18CDDD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738C117-91E2-49CD-A2F2-0F05267734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3C9BBB3-0230-43BF-9752-925D631D9A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F707F0C-B121-41B7-A8C1-1371084681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88D9478-0967-42D0-A063-8C7A67C53E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C19BDAC-A55C-4ECE-B243-E65B0AC60C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45A079F-8315-4860-8631-B8AF9B07E0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9B8D74A-D88B-4D2A-A4FF-FFACDC4F31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BB5E9DB-CEF6-408A-A04C-60AC1B67AA6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30ABF1B-0B5A-4FF2-B4CF-9590EFD919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7391C91-60B4-40F0-A480-0DAD6A52F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CD27CE-CF55-4F16-9628-9513E9331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98C082-EB08-40C8-A4F6-CAA1F7E5C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5D422D-C79F-4DAE-A652-7FBBDC922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378F5E-20F4-46CE-B19F-407DBC09E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77BCCD-809F-400C-85B8-8164DF3FA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6565A6-1E95-4DAC-B932-235C2DDE4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B1CA61C-22A1-49D3-98C3-C44CD79BE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E2416A-E210-41CE-BC6B-44C2601C9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6D93F5-E425-47D5-AD70-60CC8F400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33F9BC6-44AB-4601-825E-E616BC4FF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7427D3D-E071-48C7-9E86-0E95CFEE5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316FE09-E0FC-478D-A037-3D938BDC2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5459CE-E68A-4F35-BB4E-4CD1D3A2ED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AF21B-87F6-48B7-AED3-92C1D4C44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AE4BA-6C67-462E-BF02-000BB03D8D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BDA954-0EAD-40CD-AE2F-DC30303C9B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CE5E1-931F-4B94-88B2-A6389C761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803FF98-6AD6-40B5-A389-E1B4FD4EA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EC8E28-B9AB-4D03-B5F2-C8702719A2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B76D5-5D22-4E72-A8E7-3065CD6A3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E1F1D-39DF-4C01-9C5D-DD005556A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7B442-4EE6-478E-B9E4-8E387F8E9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571812-FF46-4653-B27F-0DBC2EE2E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C9E795-A180-4094-AF57-EFCDB4453C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9428D9-2D65-4718-94DF-A25BAFC14D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599F2BF-2721-47CB-964F-8BF6C62608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4CDF530-454A-4533-83AE-DF309D009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A6160CC-F706-4A5D-81D9-5C6924D5C0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638983B-41D1-409B-9B49-B3AD3E15C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6906F6-22C7-42B0-8816-9AFF3BA645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A39A9AC-AD03-4AA2-AE1F-E65781A10D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16D866D-6BC7-4310-9445-6ABEFCD3A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8682D3-C68C-4F2D-9A21-64060E360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B323C5-5A9C-45F1-AF5E-8E681E21C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A9B8BE-20DD-4336-AA6D-1677CA7C9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1563E13-0445-4907-AC61-B44E767FD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5DBE24C-1E94-4483-A74A-DA94D3E94F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C21EF07-B9CC-4D5E-87B5-E8C7CC46B4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F32138-0860-4063-8A8A-9180AA0769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74964A1-E95B-465E-AB1A-1F9369973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BD3B4D-61CD-481F-9EF7-84DB0C6D0E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6C5CD3-0C21-4959-92EE-70FE9CCFE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A64D02-805B-430E-9C64-F43A5363B0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57462E-5583-4511-92CE-02E934BCF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DF23D-EBED-4827-BDE5-CF9686ACA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98118C-35AA-4506-8838-F39A36AC3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34295-8A27-421B-9079-9656560B2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CF6982-DB6A-4932-ADF8-3092E61FD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7A74B0-126A-4A19-91B0-45FDAA7D40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3F4F62-F2CA-4D7F-9651-752B28DE26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B24783B-22C0-441D-A802-6D6C1EE7F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35E2D2-65CD-4F47-9885-C6D7260C26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99DB7D-EBE1-494B-A25A-A3C15F77AE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D8BE4-3BC4-4193-9FA0-3BA63623DB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18B2B8-FB73-41F4-944E-8FCCC0296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5DAD9E-5CC1-4E14-BBA1-DA2E9AF8A4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E68562-F5D4-47BA-B1A1-D033D9D3BD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A491D3-9714-4394-84BE-C1669D54A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1BEAD-6AB7-4D9C-B6BE-E8BB15308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FD04E-949F-4A82-BA0D-D1CD59E1A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B609A0-4A07-4526-836C-A09583A1F6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E95300A-9DFB-4EBE-A34B-4A97EAF8D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52E29B-B2AF-45B7-9596-9004DA059B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CA4249-7100-496A-B1B6-F323B3AD72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A5D9DD-E191-4A8C-B0EF-0D7859065B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D46080-FCFF-41D0-8152-181B1C53ED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9825EF-BE38-4FE2-95FD-22E56FAB7A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16B22E-E39F-4E00-AF67-F35E0633CF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7C922E-3763-4091-B963-3688B52E54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23872B-12B4-488A-9C88-EB73D8EA95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48F76-AC53-438D-86E3-E1133AB3C5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30BB3-B998-4E3F-8EAE-634948989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83626F6-8EF7-4C45-8B5D-F0B4BB77A2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BEB766-C4D9-4E7C-909E-C2BE78183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E3C24C-E10E-47F6-9CA9-1B82FE8BD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952405-97E7-403E-8D6A-A8A2A1C8CA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85B5B6-84B2-45C7-85C8-FE7BBBD7E7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443B7B-697D-4510-BEEE-3512315881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D92FB947-31FA-4A13-AA39-D2DD22E875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D687A5E-D985-46F6-8730-46253A070C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FA6D2BC-C424-4C7A-AB4B-DDE48C5074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AA0655C7-7A84-490E-A8AE-394D75404B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2C36A5E-7032-4D0D-9D1C-8630F99978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9AB3CBB-FFD4-4716-B79E-3CE319F25A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377BA62-48E9-4F55-BACB-20D06FB4CF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8BF5C6C-8880-40D6-833C-7306D9CC2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E23C7D2-FA97-4F5B-B6D4-58918BEE69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6E7BB50-1A0C-4F82-905C-CCAD8334FC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64410D8-2356-4C8C-AD0A-062D076C3D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0AD07D3-7573-4A35-AA1B-CA79A402D8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43D7E66-6AC2-4265-87B6-D82FD866EE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62EA02A-C470-48E7-A932-0FF7B5CBD5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1F09082-D365-4647-A8CD-ECAD2DA59A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27486AB-CFB2-4007-A126-AF0681A134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0013-742A-4678-B770-BC93925D9859}"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FC45-8E4A-4A45-BD58-51213E980B3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35AB-7CDB-44EE-BB79-238937AB3D7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C3A6-16F8-4055-BE9F-B406DB915C1A}"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87D3-DFD2-43CF-BFC7-CA58BE738E1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B73E-ECF0-4518-9F7F-6B20A9924BA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ABA7-79AF-4298-A70D-735CD59A3B7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548A-313B-4414-B850-BDE1F0305F0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AC83-A028-4B18-9512-E0D10D4D3F1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7200" y="378000"/>
            <a:ext cx="8418600" cy="2232000"/>
          </a:xfrm>
          <a:prstGeom prst="rect">
            <a:avLst/>
          </a:prstGeom>
          <a:ln w="0">
            <a:noFill/>
          </a:ln>
        </p:spPr>
      </p:pic>
      <p:sp>
        <p:nvSpPr>
          <p:cNvPr id="395" name="PlaceHolder 1"/>
          <p:cNvSpPr>
            <a:spLocks noGrp="1"/>
          </p:cNvSpPr>
          <p:nvPr>
            <p:ph type="subTitle"/>
          </p:nvPr>
        </p:nvSpPr>
        <p:spPr>
          <a:xfrm>
            <a:off x="2133360" y="2819520"/>
            <a:ext cx="6559560" cy="1752480"/>
          </a:xfrm>
          <a:prstGeom prst="rect">
            <a:avLst/>
          </a:prstGeom>
          <a:noFill/>
          <a:ln w="0">
            <a:noFill/>
          </a:ln>
        </p:spPr>
        <p:txBody>
          <a:bodyPr lIns="45720" rIns="24696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Just a few things….</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450720" y="249120"/>
            <a:ext cx="8541000" cy="1165320"/>
          </a:xfrm>
          <a:prstGeom prst="rect">
            <a:avLst/>
          </a:prstGeom>
          <a:ln w="0">
            <a:noFill/>
          </a:ln>
        </p:spPr>
      </p:pic>
      <p:sp>
        <p:nvSpPr>
          <p:cNvPr id="41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onsider your words online just as you do face-to-fac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Respect each other’s privac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Do not post pictures or personal information of a friend (or enemy) to get  </a:t>
            </a:r>
            <a:endParaRPr b="0" lang="en-US" sz="32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back at someone </a:t>
            </a:r>
            <a:endParaRPr b="0" lang="en-US" sz="3200" spc="-1" strike="noStrike">
              <a:solidFill>
                <a:srgbClr val="ffffff"/>
              </a:solidFill>
              <a:latin typeface="Rockwell"/>
            </a:endParaRPr>
          </a:p>
        </p:txBody>
      </p:sp>
      <p:pic>
        <p:nvPicPr>
          <p:cNvPr id="415" name="Picture 2" descr="C:\Users\Mrs. Line\AppData\Local\Microsoft\Windows\Temporary Internet Files\Content.IE5\OIYNW0OJ\MP900448485[1].jpg"/>
          <p:cNvPicPr/>
          <p:nvPr/>
        </p:nvPicPr>
        <p:blipFill>
          <a:blip r:embed="rId2"/>
          <a:stretch/>
        </p:blipFill>
        <p:spPr>
          <a:xfrm>
            <a:off x="6781680" y="3809880"/>
            <a:ext cx="167652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1" descr=""/>
          <p:cNvPicPr/>
          <p:nvPr/>
        </p:nvPicPr>
        <p:blipFill>
          <a:blip r:embed="rId1"/>
          <a:stretch/>
        </p:blipFill>
        <p:spPr>
          <a:xfrm>
            <a:off x="450720" y="249120"/>
            <a:ext cx="8541000" cy="1165320"/>
          </a:xfrm>
          <a:prstGeom prst="rect">
            <a:avLst/>
          </a:prstGeom>
          <a:ln w="0">
            <a:noFill/>
          </a:ln>
        </p:spPr>
      </p:pic>
      <p:pic>
        <p:nvPicPr>
          <p:cNvPr id="417" name="Content Placeholder 3" descr="3 people.jpg"/>
          <p:cNvPicPr/>
          <p:nvPr/>
        </p:nvPicPr>
        <p:blipFill>
          <a:blip r:embed="rId2"/>
          <a:stretch/>
        </p:blipFill>
        <p:spPr>
          <a:xfrm>
            <a:off x="762120" y="1295280"/>
            <a:ext cx="7497720" cy="512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450720" y="249120"/>
            <a:ext cx="8541000" cy="1165320"/>
          </a:xfrm>
          <a:prstGeom prst="rect">
            <a:avLst/>
          </a:prstGeom>
          <a:ln w="0">
            <a:noFill/>
          </a:ln>
        </p:spPr>
      </p:pic>
      <p:pic>
        <p:nvPicPr>
          <p:cNvPr id="419" name="Content Placeholder 3" descr="pen.jpg"/>
          <p:cNvPicPr/>
          <p:nvPr/>
        </p:nvPicPr>
        <p:blipFill>
          <a:blip r:embed="rId2"/>
          <a:stretch/>
        </p:blipFill>
        <p:spPr>
          <a:xfrm rot="20458200">
            <a:off x="949320" y="1356840"/>
            <a:ext cx="188604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450720" y="249120"/>
            <a:ext cx="8541000" cy="1165320"/>
          </a:xfrm>
          <a:prstGeom prst="rect">
            <a:avLst/>
          </a:prstGeom>
          <a:ln w="0">
            <a:noFill/>
          </a:ln>
        </p:spPr>
      </p:pic>
      <p:sp>
        <p:nvSpPr>
          <p:cNvPr id="39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nternet safety is not a bunch of rul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t i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void being</a:t>
            </a:r>
            <a:endParaRPr b="0" lang="en-US" sz="2600" spc="-1" strike="noStrike">
              <a:solidFill>
                <a:srgbClr val="ffffff"/>
              </a:solidFill>
              <a:latin typeface="Rockwell"/>
            </a:endParaRPr>
          </a:p>
          <a:p>
            <a:pPr lvl="2" marL="822240" indent="-190440">
              <a:spcBef>
                <a:spcPts val="4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Rockwell"/>
              </a:rPr>
              <a:t>Scammed</a:t>
            </a:r>
            <a:endParaRPr b="0" lang="en-US" sz="2300" spc="-1" strike="noStrike">
              <a:solidFill>
                <a:srgbClr val="ffffff"/>
              </a:solidFill>
              <a:latin typeface="Rockwell"/>
            </a:endParaRPr>
          </a:p>
          <a:p>
            <a:pPr lvl="2" marL="822240" indent="-190440">
              <a:spcBef>
                <a:spcPts val="4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Rockwell"/>
              </a:rPr>
              <a:t>Disrespected</a:t>
            </a:r>
            <a:endParaRPr b="0" lang="en-US" sz="2300" spc="-1" strike="noStrike">
              <a:solidFill>
                <a:srgbClr val="ffffff"/>
              </a:solidFill>
              <a:latin typeface="Rockwell"/>
            </a:endParaRPr>
          </a:p>
          <a:p>
            <a:pPr lvl="2" marL="822240" indent="-190440">
              <a:spcBef>
                <a:spcPts val="4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Rockwell"/>
              </a:rPr>
              <a:t>Bullied</a:t>
            </a:r>
            <a:endParaRPr b="0" lang="en-US" sz="2300" spc="-1" strike="noStrike">
              <a:solidFill>
                <a:srgbClr val="ffffff"/>
              </a:solidFill>
              <a:latin typeface="Rockwell"/>
            </a:endParaRPr>
          </a:p>
          <a:p>
            <a:pPr lvl="2" marL="822240" indent="-190440">
              <a:spcBef>
                <a:spcPts val="400"/>
              </a:spcBef>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Rockwell"/>
              </a:rPr>
              <a:t>Stalked</a:t>
            </a:r>
            <a:endParaRPr b="0" lang="en-US" sz="2300" spc="-1" strike="noStrike">
              <a:solidFill>
                <a:srgbClr val="ffffff"/>
              </a:solidFill>
              <a:latin typeface="Rockwell"/>
            </a:endParaRPr>
          </a:p>
        </p:txBody>
      </p:sp>
      <p:pic>
        <p:nvPicPr>
          <p:cNvPr id="398" name="Picture 3" descr="group1.jpg"/>
          <p:cNvPicPr/>
          <p:nvPr/>
        </p:nvPicPr>
        <p:blipFill>
          <a:blip r:embed="rId2"/>
          <a:stretch/>
        </p:blipFill>
        <p:spPr>
          <a:xfrm>
            <a:off x="4800600" y="3809880"/>
            <a:ext cx="3733920" cy="187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450720" y="249120"/>
            <a:ext cx="8541000" cy="1165320"/>
          </a:xfrm>
          <a:prstGeom prst="rect">
            <a:avLst/>
          </a:prstGeom>
          <a:ln w="0">
            <a:noFill/>
          </a:ln>
        </p:spPr>
      </p:pic>
      <p:pic>
        <p:nvPicPr>
          <p:cNvPr id="400" name="Content Placeholder 3" descr="comodity.jpg"/>
          <p:cNvPicPr/>
          <p:nvPr/>
        </p:nvPicPr>
        <p:blipFill>
          <a:blip r:embed="rId2"/>
          <a:stretch/>
        </p:blipFill>
        <p:spPr>
          <a:xfrm>
            <a:off x="2095560" y="2583000"/>
            <a:ext cx="4952880" cy="265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0720" y="249120"/>
            <a:ext cx="8541000" cy="1165320"/>
          </a:xfrm>
          <a:prstGeom prst="rect">
            <a:avLst/>
          </a:prstGeom>
          <a:ln w="0">
            <a:noFill/>
          </a:ln>
        </p:spPr>
      </p:pic>
      <p:sp>
        <p:nvSpPr>
          <p:cNvPr id="402"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elps companies provide you ads that are more targeted to your interests, it helps researchers know what kind of products to design, and so on.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But your information is also used in negative and sometimes criminal ways</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249120"/>
            <a:ext cx="8491680" cy="11588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Rockwell"/>
              </a:rPr>
              <a:t>By someone who wants to embarrass or bully you.</a:t>
            </a:r>
            <a:endParaRPr b="0" lang="en-US" sz="2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Rockwell"/>
              </a:rPr>
              <a:t>Plagiarists who want to claim your content as their own</a:t>
            </a:r>
            <a:endParaRPr b="0" lang="en-US" sz="2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Rockwell"/>
              </a:rPr>
              <a:t>By companies who want to use your information in ways that act against your interests </a:t>
            </a:r>
            <a:endParaRPr b="0" lang="en-US" sz="25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Insurance companies are using information posted on blogs to deny coverage of medical claims, car accident claims, and so on.</a:t>
            </a:r>
            <a:endParaRPr b="0" lang="en-US" sz="2000" spc="-1" strike="noStrike">
              <a:solidFill>
                <a:srgbClr val="ffffff"/>
              </a:solidFill>
              <a:latin typeface="Rockwell"/>
            </a:endParaRPr>
          </a:p>
          <a:p>
            <a:pPr lvl="1" marL="639720" indent="-228600">
              <a:lnSpc>
                <a:spcPct val="8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Companies may reject your job application, find reasons to fire you, and so on.</a:t>
            </a:r>
            <a:endParaRPr b="0" lang="en-US" sz="20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Rockwell"/>
              </a:rPr>
              <a:t>By criminal organizations or individuals building profiles of people to scam, steal identities, hijack computers, find interesting homes to break into or cars to steal,  people to physically harm, and so on</a:t>
            </a:r>
            <a:endParaRPr b="0" lang="en-US" sz="25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244440" y="249120"/>
            <a:ext cx="8747280" cy="116532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urvey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Videos and imag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News articl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Blogs/RSS feed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Gaming and shopping activities</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49120"/>
            <a:ext cx="8541000" cy="1165320"/>
          </a:xfrm>
          <a:prstGeom prst="rect">
            <a:avLst/>
          </a:prstGeom>
          <a:ln w="0">
            <a:noFill/>
          </a:ln>
        </p:spPr>
      </p:pic>
      <p:pic>
        <p:nvPicPr>
          <p:cNvPr id="408" name="Content Placeholder 3" descr="conditions.jpg"/>
          <p:cNvPicPr/>
          <p:nvPr/>
        </p:nvPicPr>
        <p:blipFill>
          <a:blip r:embed="rId2"/>
          <a:stretch/>
        </p:blipFill>
        <p:spPr>
          <a:xfrm>
            <a:off x="1143000" y="1523880"/>
            <a:ext cx="702144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450720" y="249120"/>
            <a:ext cx="8541000" cy="1165320"/>
          </a:xfrm>
          <a:prstGeom prst="rect">
            <a:avLst/>
          </a:prstGeom>
          <a:ln w="0">
            <a:noFill/>
          </a:ln>
        </p:spPr>
      </p:pic>
      <p:pic>
        <p:nvPicPr>
          <p:cNvPr id="410" name="Content Placeholder 3" descr="jessica.jpg"/>
          <p:cNvPicPr/>
          <p:nvPr/>
        </p:nvPicPr>
        <p:blipFill>
          <a:blip r:embed="rId2"/>
          <a:stretch/>
        </p:blipFill>
        <p:spPr>
          <a:xfrm>
            <a:off x="457200" y="1371600"/>
            <a:ext cx="7889760" cy="51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450720" y="249120"/>
            <a:ext cx="8541000" cy="1165320"/>
          </a:xfrm>
          <a:prstGeom prst="rect">
            <a:avLst/>
          </a:prstGeom>
          <a:ln w="0">
            <a:noFill/>
          </a:ln>
        </p:spPr>
      </p:pic>
      <p:pic>
        <p:nvPicPr>
          <p:cNvPr id="412" name="Content Placeholder 3" descr="chelsie.jpg"/>
          <p:cNvPicPr/>
          <p:nvPr/>
        </p:nvPicPr>
        <p:blipFill>
          <a:blip r:embed="rId2"/>
          <a:stretch/>
        </p:blipFill>
        <p:spPr>
          <a:xfrm>
            <a:off x="2089080" y="2220840"/>
            <a:ext cx="4965840" cy="337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24:37Z</dcterms:created>
  <dc:creator>Mrs. Line</dc:creator>
  <dc:description/>
  <dc:language>en-US</dc:language>
  <cp:lastModifiedBy>Mrs. Line</cp:lastModifiedBy>
  <dcterms:modified xsi:type="dcterms:W3CDTF">2012-09-11T13:14:07Z</dcterms:modified>
  <cp:revision>4</cp:revision>
  <dc:subject/>
  <dc:title>Slide 1</dc:title>
</cp:coreProperties>
</file>